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applause.wav" ContentType="audio/x-wav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6A1-3CDE-46F3-BA92-C89897F4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BA5-455A-4CD8-9F96-1D66243C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149-2B7D-4444-AA88-373140DA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F84-0F9A-4897-B0A5-C1DA122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8205-8F3F-449D-B2A6-D6DBD4E3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56A-FC1E-468E-AA6A-987AD20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31E-4C22-4629-B4E8-CB5ED24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A6DB-0DF3-4D19-B8DB-9C37F19B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6D32-DF6B-48C3-BE79-1D11D6E8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B89B-D6DA-4306-8991-3B1D56F8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9788-8E2C-4D1E-B786-ECAEF3C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B26-CD71-4A93-9A54-5244807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64CE-5F62-4036-AEF8-06E7B68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8E01-9976-4CEE-B647-A4188A8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ACCD-6FFD-4BC4-AB95-5B031AF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3ABF-7AD0-4098-B114-B7C1B150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5CD-FDDE-47E7-B682-8C3C2D8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BF7-818F-4D8B-8479-E9CA686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EB8-7270-4F0D-98D2-C629138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807-EF65-4F2F-A461-D40B6EC8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9F1-9EF8-45C3-9201-EE52A34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A1F-6A8E-47FC-8454-06D45DC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BD5-0DCE-4B2D-89E9-933E2AE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E5F-7265-4C57-A09D-1572E4E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7AFA-E4E3-4365-BB00-80A760F01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BD59-6E0C-44BF-BC3C-762D97C9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742840"/>
            <a:ext cx="4419720" cy="19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loding Ant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mazing Facts About How Animals Ada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4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7" descr="exploding ants"/>
          <p:cNvPicPr/>
          <p:nvPr/>
        </p:nvPicPr>
        <p:blipFill>
          <a:blip r:embed="rId1"/>
          <a:stretch/>
        </p:blipFill>
        <p:spPr>
          <a:xfrm>
            <a:off x="4419720" y="762120"/>
            <a:ext cx="4286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said that mone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ca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ight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go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plenti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895480" y="426708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ctic animals ha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iz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order to survive in that harsh environ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w large and blubb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to the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828800" y="441972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ing out about the disease earl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surviv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tion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133720" y="3733920"/>
            <a:ext cx="4495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bought a tissue box since the extra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uc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s one of the cold symp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ck substance made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tance that carries oxygen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4114800"/>
            <a:ext cx="6553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rgeon need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ter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oom before he opera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pel and other tools for surg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276720" y="4343400"/>
            <a:ext cx="3047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80880" y="1295280"/>
            <a:ext cx="38102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0880" y="2590920"/>
            <a:ext cx="38862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380880" y="4114800"/>
            <a:ext cx="2895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76920" y="1523880"/>
            <a:ext cx="32004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495680" y="3276720"/>
            <a:ext cx="426744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4724280" y="4876920"/>
            <a:ext cx="327672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rd to get; r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038480" y="609480"/>
            <a:ext cx="38102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MPj04372970000[1]"/>
          <p:cNvPicPr/>
          <p:nvPr/>
        </p:nvPicPr>
        <p:blipFill>
          <a:blip r:embed="rId1"/>
          <a:stretch/>
        </p:blipFill>
        <p:spPr>
          <a:xfrm>
            <a:off x="0" y="2057400"/>
            <a:ext cx="4791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657240" y="20574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s ability, power, or means to; makes 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724280" y="457200"/>
            <a:ext cx="289584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3" descr="MPj04388470000[1]"/>
          <p:cNvPicPr/>
          <p:nvPr/>
        </p:nvPicPr>
        <p:blipFill>
          <a:blip r:embed="rId1"/>
          <a:stretch/>
        </p:blipFill>
        <p:spPr>
          <a:xfrm>
            <a:off x="0" y="380520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038480" y="175212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eing important to the outcome of a situ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419720" y="457200"/>
            <a:ext cx="32004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MCj02871840000[1]"/>
          <p:cNvPicPr/>
          <p:nvPr/>
        </p:nvPicPr>
        <p:blipFill>
          <a:blip r:embed="rId1"/>
          <a:stretch/>
        </p:blipFill>
        <p:spPr>
          <a:xfrm>
            <a:off x="2666880" y="4414680"/>
            <a:ext cx="31640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73392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develop in a special w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962520" y="304920"/>
            <a:ext cx="396216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0" descr="MPj04310360000[1]"/>
          <p:cNvPicPr/>
          <p:nvPr/>
        </p:nvPicPr>
        <p:blipFill>
          <a:blip r:embed="rId1"/>
          <a:stretch/>
        </p:blipFill>
        <p:spPr>
          <a:xfrm>
            <a:off x="457200" y="609480"/>
            <a:ext cx="2338560" cy="350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MPj04307630000[1]"/>
          <p:cNvPicPr/>
          <p:nvPr/>
        </p:nvPicPr>
        <p:blipFill>
          <a:blip r:embed="rId2"/>
          <a:stretch/>
        </p:blipFill>
        <p:spPr>
          <a:xfrm>
            <a:off x="2666880" y="3276720"/>
            <a:ext cx="2381400" cy="358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MCj04160240000[1]"/>
          <p:cNvPicPr/>
          <p:nvPr/>
        </p:nvPicPr>
        <p:blipFill>
          <a:blip r:embed="rId3"/>
          <a:stretch/>
        </p:blipFill>
        <p:spPr>
          <a:xfrm>
            <a:off x="5867280" y="3429000"/>
            <a:ext cx="18446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562720" y="137160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ee from germ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114800" y="152280"/>
            <a:ext cx="34290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7" descr="MPj0400426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510516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8584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limy substance produced in the nose and throat to moisten and protect the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267080" y="304920"/>
            <a:ext cx="35053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MPj04222010000[1]"/>
          <p:cNvPicPr/>
          <p:nvPr/>
        </p:nvPicPr>
        <p:blipFill>
          <a:blip r:embed="rId1"/>
          <a:stretch/>
        </p:blipFill>
        <p:spPr>
          <a:xfrm>
            <a:off x="0" y="0"/>
            <a:ext cx="4116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ing for the science te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make a good gr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s it possible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engthens your brain 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3880" y="373392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Jarrod Gorman</cp:lastModifiedBy>
  <dcterms:modified xsi:type="dcterms:W3CDTF">2012-04-23T00:37:21Z</dcterms:modified>
  <cp:revision>95</cp:revision>
  <dc:subject/>
  <dc:title>Frindle Vocabulary Words</dc:title>
</cp:coreProperties>
</file>